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2374-3681-427B-BFBA-0669CF608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ustralopithecu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human ancestor that lived between 3 and 4 million years ago. The most famous fossil is of a woman called Lucy found in Af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xt human ancestor wa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omo habil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ates from 1.6 to 2.5 million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cam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omo erectu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was the first human to travel out of Africa between 1.8 million and 50,000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group was Neanderthals who lived in Asia and Eur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fossils of modern humans are about 35,000 years old. These are called Cro-Magn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became the prominent life form on Earth about 50,000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F6B0-E6ED-4D94-8192-36C46FA30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C868-3381-4BD7-9A5E-99A57448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F56B-D152-4142-9EAE-178A4F3D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0767-ECAD-42B0-926C-946131DC4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0894-2525-4795-B577-5367B1D1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6064-58A2-4FAE-B20E-3421D803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7BCF-08C2-4EB4-9D39-812949C5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FBDA-D781-43C2-BFE6-2AED32C6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67F9-15F3-4E91-AF6B-A10B3D1C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076E-081F-4ADD-9F6D-DD748DEF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17E4-AC36-4D60-A426-23B06BA2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2BE0-E70A-4DBD-89D2-C0222F26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FC27-DA39-4898-83CF-86273D24D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terns of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3889" t="0" r="0" b="6411"/>
          <a:stretch/>
        </p:blipFill>
        <p:spPr>
          <a:xfrm>
            <a:off x="11160" y="685800"/>
            <a:ext cx="5869080" cy="6172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811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vergent 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pecies gives rise to many spe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ar different externally but are similar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aptive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0" t="0" r="0" b="27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ptive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0" r="0" b="3708"/>
          <a:stretch/>
        </p:blipFill>
        <p:spPr>
          <a:xfrm>
            <a:off x="93600" y="1066680"/>
            <a:ext cx="4727520" cy="5105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0" t="0" r="0" b="3708"/>
          <a:stretch/>
        </p:blipFill>
        <p:spPr>
          <a:xfrm>
            <a:off x="4648320" y="1066680"/>
            <a:ext cx="4470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4017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4016520"/>
            <a:ext cx="9144000" cy="28414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terns of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914040"/>
            <a:ext cx="44956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rgent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evolutionary pressures create similar adaptations in different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78400" y="274680"/>
            <a:ext cx="3308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tterns of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groups of species develop along the same lines due to similar ni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3405240"/>
            <a:ext cx="5257800" cy="3452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8148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tterns of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0560" y="0"/>
            <a:ext cx="457344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species evolve structures and behaviors in response to each other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1523880"/>
            <a:ext cx="5257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Human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Part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44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moni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family hominidae) are the groups comprised of humans and their ancestors. They are in the order of mammals called primates (monkeys &amp; ape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95680" y="2209680"/>
            <a:ext cx="33530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2362320"/>
            <a:ext cx="2743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ustralopithec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90920" y="3886200"/>
            <a:ext cx="31240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4038480"/>
            <a:ext cx="2209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mo Habil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5715000"/>
            <a:ext cx="31244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586728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mo Erec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952880" y="30481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437920" y="480060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0" r="0" b="55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Homo Sapi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erect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bably coexisted for about 700,000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ved around 800,000 years ag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umans as we are today are thought to have evolved about 100,000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4267080"/>
            <a:ext cx="312408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441972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mo Erec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5562720"/>
            <a:ext cx="312408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71500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mo Sapi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429000" y="5638320"/>
            <a:ext cx="2286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4952880"/>
            <a:ext cx="312408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5105520"/>
            <a:ext cx="259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s (Now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29000" y="4648320"/>
            <a:ext cx="2209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22:35:09Z</dcterms:created>
  <dc:creator>Tricia</dc:creator>
  <dc:description/>
  <dc:language>en-US</dc:language>
  <cp:lastModifiedBy>Tricia</cp:lastModifiedBy>
  <dcterms:modified xsi:type="dcterms:W3CDTF">2007-04-23T13:03:53Z</dcterms:modified>
  <cp:revision>2</cp:revision>
  <dc:subject/>
  <dc:title>Patterns of Evolution</dc:title>
</cp:coreProperties>
</file>